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9F67-5316-4794-8A51-57E58B5F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6423-B3C9-49DC-B890-9CDBB31D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B01-0DB9-4A26-AC7B-4E315EED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8750-117B-4457-8C0F-555EC0A0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58DB-CBBD-445D-99BF-74A0B145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E858-B7E4-42DE-B01F-D101AE68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1F21-57CC-41E8-AB47-45359D41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12B0-589A-4E1B-8C74-54EB93DB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A377-42E2-461D-BE32-590C1502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4276-29C8-4D4F-8C4B-BC07542D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4947-A6CD-4B57-B2CF-3C1AD008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0E0-9B79-42CF-8FB6-8D3A1D8A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4651-A279-4851-A101-759C5ACA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E0B6-7F17-4215-8F94-BDA0999C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79C7-ADEA-4034-BCD8-5CC72044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5699-CA02-4280-A7F0-C1777EA0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2BA8-1F91-41D9-A58E-6F7D6937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57F-A728-4306-9102-02BDF693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39E-E570-4B40-A8A4-568F5C2A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4CBF-7FD0-4D2F-94B9-47215F7C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7B7-321C-4C84-9487-8C78E6A8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090-784B-490E-B618-C4C9EB49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839D-3A49-4E58-9ED8-EFA487E7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A7A-33E6-4D69-9A42-F2E9464A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AE27-F56E-41E0-987F-73D52A30179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02DA-B804-4B91-847A-B3BACE51CFB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Sonne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 sonnet 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lyric poe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sisting of fourteen lin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ritten in iambic pentame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h a definite rhyme schem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d a definite thought structu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 lyric poem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Deals with emotions, feeling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38680" y="29718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1752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ambic pentameter consists of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ive measures, units, or meters, of iamb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s is a rhythmical pattern of syllabl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ambic’ means that the rhythm goes from an unstressed syllable to a stressed on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amples:  divine, caress, bizarre, deligh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unds like a heartbeat: daDUM, daDUM, daD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124080"/>
          </a:xfrm>
          <a:prstGeom prst="rect">
            <a:avLst/>
          </a:prstGeom>
          <a:noFill/>
          <a:ln w="38160">
            <a:solidFill>
              <a:srgbClr val="eaeaea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An </a:t>
            </a:r>
            <a:r>
              <a:rPr b="0" lang="en-US" sz="4000" spc="-1" strike="noStrike">
                <a:solidFill>
                  <a:srgbClr val="66ff33"/>
                </a:solidFill>
                <a:latin typeface="Verdana"/>
              </a:rPr>
              <a:t>iamb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is a metrical foot consisting of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an unaccented syllable </a:t>
            </a:r>
            <a:r>
              <a:rPr b="0" lang="en-US" sz="4000" spc="-1" strike="noStrike">
                <a:solidFill>
                  <a:srgbClr val="66ff33"/>
                </a:solidFill>
                <a:latin typeface="Verdana"/>
              </a:rPr>
              <a:t>U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followed by an accented syllable </a:t>
            </a:r>
            <a:r>
              <a:rPr b="0" lang="en-US" sz="4000" spc="-1" strike="noStrike">
                <a:solidFill>
                  <a:srgbClr val="66ff33"/>
                </a:solidFill>
                <a:latin typeface="Verdana"/>
              </a:rPr>
              <a:t>/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</a:rPr>
              <a:t>                   </a:t>
            </a:r>
            <a:r>
              <a:rPr b="0" lang="en-US" sz="3600" spc="-1" strike="noStrike">
                <a:solidFill>
                  <a:srgbClr val="66ff33"/>
                </a:solidFill>
                <a:latin typeface="Verdana"/>
              </a:rPr>
              <a:t>U      /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    gai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         </a:t>
            </a:r>
            <a:r>
              <a:rPr b="0" lang="en-US" sz="3600" spc="-1" strike="noStrike">
                <a:solidFill>
                  <a:srgbClr val="66ff33"/>
                </a:solidFill>
                <a:latin typeface="Verdana"/>
              </a:rPr>
              <a:t>U        /      U      /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m    mor    tal    iz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ambic pentamet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     /   U    /      U     /    U    /    U       /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ne day I wrote her name u pon the strand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      /     U       /     U      /     U / U   /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t came the waves and wash ed it a way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   /  U    /    U    /    U   /   U     /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gain I wrote it with a sec ond hand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     /     U    /      U      /     U     /      U    /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t came the tide, and made my pains his pre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Edmund Spenser, Amoretti, Sonnet 75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18288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18288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18288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18288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18288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853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371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2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3               4                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hyme schem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etrarchan (Italian) rime schem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ba, abba, cd, cd, c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ba, abba, cde, cd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hakespearean (English, or Elizabethan) rime schem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ab, cdcd, efef, g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nnet 18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hall I compare thee to a summer's d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y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ou art more lovely and more temper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at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ough winds do shake the darling buds of M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y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d summer's lease hath all too short a d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at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metime too hot the eye of heaven sh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nes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d often is his gold complexion d</a:t>
            </a:r>
            <a:r>
              <a:rPr b="0" lang="en-US" sz="2000" spc="-1" strike="noStrike">
                <a:solidFill>
                  <a:srgbClr val="66ffcc"/>
                </a:solidFill>
                <a:latin typeface="Verdana"/>
              </a:rPr>
              <a:t>immed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d every fair from fair sometime decl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nes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y chance, or nature's changing course untr</a:t>
            </a:r>
            <a:r>
              <a:rPr b="0" lang="en-US" sz="2000" spc="-1" strike="noStrike">
                <a:solidFill>
                  <a:srgbClr val="66ffcc"/>
                </a:solidFill>
                <a:latin typeface="Verdana"/>
              </a:rPr>
              <a:t>immed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ut thy eternal summer shall not f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ad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r lose possession of that fair thou </a:t>
            </a:r>
            <a:r>
              <a:rPr b="0" lang="en-US" sz="2000" spc="-1" strike="noStrike">
                <a:solidFill>
                  <a:srgbClr val="eec85e"/>
                </a:solidFill>
                <a:latin typeface="Verdana"/>
              </a:rPr>
              <a:t>ow's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r shall death brag thou wander'st in his sh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ad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hen in eternal lines to time thou gr</a:t>
            </a:r>
            <a:r>
              <a:rPr b="0" lang="en-US" sz="2000" spc="-1" strike="noStrike">
                <a:solidFill>
                  <a:srgbClr val="eec85e"/>
                </a:solidFill>
                <a:latin typeface="Verdana"/>
              </a:rPr>
              <a:t>ow's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 long as men can breathe, or eyes can s</a:t>
            </a:r>
            <a:r>
              <a:rPr b="0" lang="en-US" sz="2000" spc="-1" strike="noStrike">
                <a:solidFill>
                  <a:srgbClr val="aa8456"/>
                </a:solidFill>
                <a:latin typeface="Verdana"/>
              </a:rPr>
              <a:t>e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 long lives this, and this gives life to th</a:t>
            </a:r>
            <a:r>
              <a:rPr b="0" lang="en-US" sz="2000" spc="-1" strike="noStrike">
                <a:solidFill>
                  <a:srgbClr val="aa8456"/>
                </a:solidFill>
                <a:latin typeface="Verdana"/>
              </a:rPr>
              <a:t>e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1676520"/>
            <a:ext cx="761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c85e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c85e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a8456"/>
                </a:solidFill>
                <a:latin typeface="Verdana"/>
              </a:rPr>
              <a:t>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a8456"/>
                </a:solidFill>
                <a:latin typeface="Verdana"/>
              </a:rPr>
              <a:t>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13:24:15Z</dcterms:created>
  <dc:creator>Rudolph J Schatz</dc:creator>
  <dc:description/>
  <dc:language>en-US</dc:language>
  <cp:lastModifiedBy>student</cp:lastModifiedBy>
  <dcterms:modified xsi:type="dcterms:W3CDTF">2010-11-08T15:31:54Z</dcterms:modified>
  <cp:revision>74</cp:revision>
  <dc:subject/>
  <dc:title>The Sonnet</dc:title>
</cp:coreProperties>
</file>